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044-6AA5-4C5B-A990-D7E11CE5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DB3-AB4A-4336-BD77-0B3CF6D3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C69-5005-451C-9913-B3332B52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C51-C04E-42E4-B648-13CF9AC8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E74D-1B79-475A-9336-05147117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1EB6-5B2C-4B1F-B6E3-45F5CBD7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EFE2-E529-46AA-8081-BE3D10DA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C922-318D-4C78-B600-E079D90D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62DA-25DD-4CA4-ABD3-005BBAF3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DA74-67EC-4C22-AEBC-A59D3BCC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3F3C-ED46-4BD9-98D9-F4D1A0D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502-5AF2-4D97-B510-392A1815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89D5-B076-4919-86E3-E50E9F84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BABF-FF93-4C83-B4B2-B3E71C5F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E5B2-FBF0-485E-8EB0-3DF5833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4A2E-6450-4149-B488-19293E80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4D6A-5943-40F3-9C78-85F38D92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A65-FBFC-43CA-968C-94008D94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F49-D280-43F2-9722-63EC21A2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95A-E249-4117-BB45-02BE6136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947-7768-4539-9820-4427E240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E01-8A57-4D01-BBBD-3F21CFC2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785-DDE5-4814-8365-89946986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2E6-F9E8-40AC-94AD-88603CA4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D68D-317C-40F6-8AFE-DD217651928D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532B-E2DA-4851-A2EA-2D4F36845E38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367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eded"/>
                </a:solidFill>
                <a:latin typeface="Arial"/>
              </a:rPr>
              <a:t>Sandra Cisnero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1652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eded"/>
                </a:solidFill>
                <a:latin typeface="Arial"/>
              </a:rPr>
              <a:t>Childhoo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c21"/>
                </a:solidFill>
                <a:latin typeface="Arial"/>
              </a:rPr>
              <a:t>Born 1954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c21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f2c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3rd of 7 kids, only girl (Biography)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c21"/>
                </a:solidFill>
                <a:latin typeface="Arial"/>
              </a:rPr>
              <a:t>Was very shy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2c21"/>
                </a:solidFill>
                <a:latin typeface="Arial"/>
              </a:rPr>
              <a:t>Family moved often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4197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eded"/>
                </a:solidFill>
                <a:latin typeface="Arial"/>
              </a:rPr>
              <a:t>Schooling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Mexican Parents believed in value of education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9b2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b2"/>
                </a:solidFill>
                <a:latin typeface="Arial"/>
              </a:rPr>
              <a:t>"My father's hands are thick and yellow," Cisneros wrote in Glamour  magazine, "stubbed by a history of hammer and nails and twine and coils and springs. 'Use this' my father said, tapping his head,'not this' showing us those hands.”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9b2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b2"/>
                </a:solidFill>
                <a:latin typeface="Arial"/>
              </a:rPr>
              <a:t>All siblings had library card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9b2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b2"/>
                </a:solidFill>
                <a:latin typeface="Arial"/>
              </a:rPr>
              <a:t>Got bad grades because of shynes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9b2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b2"/>
                </a:solidFill>
                <a:latin typeface="Arial"/>
              </a:rPr>
              <a:t>Encouraged to share writing in 10th grade (Gale)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86600" y="4572000"/>
            <a:ext cx="185724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Higher Educa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Graduated from Loyola University in Chicago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Father wanted her to find a husband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f2c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c21"/>
                </a:solidFill>
                <a:latin typeface="Arial"/>
              </a:rPr>
              <a:t>She found love of writing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2c21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Attended Iowa’s</a:t>
            </a: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f2c21"/>
                </a:solidFill>
                <a:latin typeface="Arial"/>
              </a:rPr>
              <a:t>Writers Workshop (Gale)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f2c2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c21"/>
                </a:solidFill>
                <a:latin typeface="Arial"/>
              </a:rPr>
              <a:t>VERY Prestigious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09852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ork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cd9d"/>
                </a:solidFill>
                <a:uFillTx/>
                <a:latin typeface="Arial"/>
              </a:rPr>
              <a:t>The House on Mango Street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 - 1984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Her break out succes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About Esperanza, a girl modeled after Cisnero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Uses Cisneros</a:t>
            </a:r>
            <a:r>
              <a:rPr b="0" lang="en-US" sz="2800" spc="-1" strike="noStrike">
                <a:solidFill>
                  <a:srgbClr val="ebcd9d"/>
                </a:solidFill>
                <a:latin typeface="Lucida Grande"/>
              </a:rPr>
              <a:t>’s</a:t>
            </a: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 Mexican American Heritag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cd9d"/>
                </a:solidFill>
                <a:uFillTx/>
                <a:latin typeface="Arial"/>
              </a:rPr>
              <a:t>My Wicked, Wicked Ways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 (Gale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15200" y="4267080"/>
            <a:ext cx="13064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ore Work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cd9d"/>
                </a:solidFill>
                <a:uFillTx/>
                <a:latin typeface="Arial"/>
              </a:rPr>
              <a:t>Woman Hollering Creek and Other Stori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Short storie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cd9d"/>
                </a:solidFill>
                <a:uFillTx/>
                <a:latin typeface="Arial"/>
              </a:rPr>
              <a:t>Carmelo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 2002 (Cisneros 112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First novel since </a:t>
            </a:r>
            <a:r>
              <a:rPr b="0" lang="en-US" sz="2800" spc="-1" strike="noStrike" u="sng">
                <a:solidFill>
                  <a:srgbClr val="ebcd9d"/>
                </a:solidFill>
                <a:uFillTx/>
                <a:latin typeface="Arial"/>
              </a:rPr>
              <a:t>The House on Mango Street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91520" y="4648320"/>
            <a:ext cx="10285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Award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MacArthur Fellowshi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First Chicana to sign major publishing contrac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bcd9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d9d"/>
                </a:solidFill>
                <a:latin typeface="Arial"/>
              </a:rPr>
              <a:t>Random House (Gale)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21178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Fun Info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Cisneros painted her house blu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Texas Historical Society objected  &amp; filed lawsu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Eventually the house faded to lavender (Gale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29000" y="4267080"/>
            <a:ext cx="31240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Family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cd9d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e is nobody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’s 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mother and nobody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’s 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wife.</a:t>
            </a:r>
            <a:r>
              <a:rPr b="0" lang="en-US" sz="3200" spc="-1" strike="noStrike">
                <a:solidFill>
                  <a:srgbClr val="ebcd9d"/>
                </a:solidFill>
                <a:latin typeface="Lucida Grande"/>
              </a:rPr>
              <a:t>”</a:t>
            </a:r>
            <a:r>
              <a:rPr b="0" lang="en-US" sz="3200" spc="-1" strike="noStrike">
                <a:solidFill>
                  <a:srgbClr val="ebcd9d"/>
                </a:solidFill>
                <a:latin typeface="Arial"/>
              </a:rPr>
              <a:t>  (Cisneros 111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2:02:03Z</dcterms:created>
  <dc:creator>Ed Center RLASD</dc:creator>
  <dc:description/>
  <dc:language>en-US</dc:language>
  <cp:lastModifiedBy>Ed Center RLASD</cp:lastModifiedBy>
  <dcterms:modified xsi:type="dcterms:W3CDTF">2008-09-11T12:14:14Z</dcterms:modified>
  <cp:revision>1</cp:revision>
  <dc:subject/>
  <dc:title>Sandra Cisneros</dc:title>
</cp:coreProperties>
</file>